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BED-6A63-4926-AC67-505E76F8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FCE-69E7-4C78-BB22-1F2AE856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875-7E8C-4363-AD2F-0B607A09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588-7B5B-4866-80B8-EEE64DA8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AE82-4042-4E22-B2D0-580CE01B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1DF7-28BF-4776-85AD-2CA00EBD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708D-CFEC-4FE1-9087-6A199A1F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8D99-902B-4D30-9F47-32ED83BA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D953-4495-47BD-958C-BCE7ADCC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54C0-8DB3-415F-BCCC-F7373662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05BD-D082-42BB-99D4-849929D4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922-194A-4C79-AE52-A8025987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2FC9-E7D6-409E-A67A-AAB6ECC0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70E6-9810-422A-B078-FF5D420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44DD-1E96-44AA-BB3C-78993A45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D13B-70AC-4667-ACC2-039F7010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89F5-B958-400E-9A1D-FE116D83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271-8662-40C9-A85B-540C7D4D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A5F-EB5D-400F-89D4-7AEB18AE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E42-9723-473C-9C12-7C304AB7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51C-496D-4B39-817A-CD344523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BDB-F2AD-486B-B6B8-1D75C9E8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362-CE94-41F1-A88E-6C3D591F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1F3-8EC6-435C-8D8F-25116CB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3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32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33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34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35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36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37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41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42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43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44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45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46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47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48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49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50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51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52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53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-12600" y="0"/>
            <a:ext cx="9156600" cy="160020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55"/>
          <p:cNvSpPr/>
          <p:nvPr/>
        </p:nvSpPr>
        <p:spPr>
          <a:xfrm>
            <a:off x="-12600" y="-12600"/>
            <a:ext cx="9156600" cy="1353960"/>
          </a:xfrm>
          <a:prstGeom prst="pie">
            <a:avLst/>
          </a:pr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56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9781-7134-47FF-9E48-5EF0C66B7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3"/>
            <p:cNvSpPr/>
            <p:nvPr/>
          </p:nvSpPr>
          <p:spPr>
            <a:xfrm flipH="1">
              <a:off x="12600" y="1315080"/>
              <a:ext cx="67694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 flipH="1">
              <a:off x="12600" y="1315080"/>
              <a:ext cx="6769440" cy="496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H="1">
              <a:off x="361800" y="1315080"/>
              <a:ext cx="6420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>
              <a:off x="1403640" y="1315080"/>
              <a:ext cx="537840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2382480" y="1315080"/>
              <a:ext cx="43995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3368880" y="1315080"/>
              <a:ext cx="34131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4237200" y="1315080"/>
              <a:ext cx="2544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5101200" y="1315080"/>
              <a:ext cx="1680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5970600" y="1315080"/>
              <a:ext cx="8114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67820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12600" y="1315080"/>
              <a:ext cx="67694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 flipH="1">
              <a:off x="12600" y="131508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600" y="1315080"/>
              <a:ext cx="6769440" cy="270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 flipH="1">
              <a:off x="12600" y="1315080"/>
              <a:ext cx="67694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12600" y="131508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12600" y="131508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12600" y="131508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>
              <a:off x="12600" y="131508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>
              <a:off x="12600" y="131508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12600" y="131508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6779160" y="131652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6779160" y="1297800"/>
              <a:ext cx="232668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6799320" y="1334880"/>
              <a:ext cx="230652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6779160" y="1297800"/>
              <a:ext cx="232668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6821640" y="134064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6779160" y="1316520"/>
              <a:ext cx="232668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6840360" y="134784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6779160" y="1297800"/>
              <a:ext cx="232668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36"/>
            <p:cNvGrpSpPr/>
            <p:nvPr/>
          </p:nvGrpSpPr>
          <p:grpSpPr>
            <a:xfrm>
              <a:off x="12600" y="692280"/>
              <a:ext cx="9092880" cy="1000800"/>
              <a:chOff x="12600" y="692280"/>
              <a:chExt cx="9092880" cy="1000800"/>
            </a:xfrm>
          </p:grpSpPr>
          <p:sp>
            <p:nvSpPr>
              <p:cNvPr id="133" name="Line 37"/>
              <p:cNvSpPr/>
              <p:nvPr/>
            </p:nvSpPr>
            <p:spPr>
              <a:xfrm flipH="1">
                <a:off x="12600" y="169308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39"/>
              <p:cNvSpPr/>
              <p:nvPr/>
            </p:nvSpPr>
            <p:spPr>
              <a:xfrm flipH="1">
                <a:off x="15840" y="99000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40"/>
              <p:cNvSpPr/>
              <p:nvPr/>
            </p:nvSpPr>
            <p:spPr>
              <a:xfrm flipH="1">
                <a:off x="15840" y="69228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41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 flipH="1" flipV="1">
              <a:off x="12240" y="27565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 flipH="1">
              <a:off x="12240" y="2365560"/>
              <a:ext cx="909324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H="1" flipV="1">
              <a:off x="12240" y="178992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 flipH="1">
              <a:off x="12240" y="162000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 flipH="1">
              <a:off x="12600" y="14191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54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55"/>
            <p:cNvSpPr/>
            <p:nvPr/>
          </p:nvSpPr>
          <p:spPr>
            <a:xfrm flipH="1">
              <a:off x="360" y="0"/>
              <a:ext cx="9142560" cy="2158920"/>
            </a:xfrm>
            <a:prstGeom prst="pi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 flipH="1">
              <a:off x="12240" y="0"/>
              <a:ext cx="9131400" cy="1752480"/>
            </a:xfrm>
            <a:prstGeom prst="pi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57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8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9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1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B9CB-ADD9-437D-A78B-CDE50F32E66A}" type="slidenum">
              <a:rPr b="0" lang="en-US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uk.ru/Encycl/HerbFood/T0045.htm" TargetMode="External"/><Relationship Id="rId2" Type="http://schemas.openxmlformats.org/officeDocument/2006/relationships/hyperlink" Target="http://www.sunduk.ru/Encycl/HerbFood/T0038.htm" TargetMode="External"/><Relationship Id="rId3" Type="http://schemas.openxmlformats.org/officeDocument/2006/relationships/hyperlink" Target="http://www.sunduk.ru/Encycl/HerbFood/T0033.htm" TargetMode="External"/><Relationship Id="rId4" Type="http://schemas.openxmlformats.org/officeDocument/2006/relationships/hyperlink" Target="http://www.sunduk.ru/Encycl/HerbFood/T0043.htm" TargetMode="External"/><Relationship Id="rId5" Type="http://schemas.openxmlformats.org/officeDocument/2006/relationships/hyperlink" Target="http://www.sunduk.ru/Encycl/HerbFood/T0025.htm" TargetMode="External"/><Relationship Id="rId6" Type="http://schemas.openxmlformats.org/officeDocument/2006/relationships/hyperlink" Target="http://www.sunduk.ru/Encycl/HerbFood/T0030.htm" TargetMode="External"/><Relationship Id="rId7" Type="http://schemas.openxmlformats.org/officeDocument/2006/relationships/hyperlink" Target="http://www.sunduk.ru/Encycl/HerbFood/T0034.htm" TargetMode="External"/><Relationship Id="rId8" Type="http://schemas.openxmlformats.org/officeDocument/2006/relationships/hyperlink" Target="http://www.sunduk.ru/Encycl/HerbFood/T0026.htm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2057400" y="762120"/>
            <a:ext cx="6172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2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838080" y="12952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оказывает влияние на рост человека, улучшает состояние кожи, способствует сопротивлению организма инфекции, обеспечивает рост и развитие эпителиальных клеток, входит в состав зрительного пигмента палочек сетчатки глаза - родопсина и зрительного пигмента колбочек - йодопсина. Эти пигменты регулируют темновую адаптацию глаз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 rot="1961400">
            <a:off x="38052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733920" y="452700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аблюдаются конъюнктивиты, характерна сухость роговицы - ксерофтальмия. Отмечается также похудение (вплоть до истощения), у детей - задержка роста. Симптомы избытка витамина А: сонливость, вялость, головная боль, гиперемия лица, тошнота, рвота,                                                 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429000" y="28195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едостаток витамина A приводит к ухудшению зрения в сумерках ("куриной слепоте"). Проявления гиповитаминоза А: кожа становится сухой и шероховатой на руках и икрах ног, шелушится, ороговение волосяных фолликулов делает ее шершавой. Ногти сухие, тусклые. Часто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2209680"/>
            <a:ext cx="3822840" cy="46483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3809880" y="2055600"/>
            <a:ext cx="5334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Comic Sans MS"/>
              </a:rPr>
              <a:t>Витамин А обнаружен только в продуктах животного происхождения (рыбий жир, жир молока, сливочное масло, сливки, творог, сыр, яичный желток, жир печени и жир других органов - сердца, мозга). Однако в организме человека (в кишечной стенке и печени) витамин А может образовываться из некоторых пигментов, называемых каротинами, которые широко распространены в растительных продуктах. Наибольшей активностью обладает b-каротин (провитамин А)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3196800"/>
            <a:ext cx="883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читается, что 1 мг b-каротина по эффективности соответствует 0,17 мг витамина А (ретинол). Много содержится каротина в рябине, абрикосах, шиповнике, черной смородине, облепихе, желтых тыквах, арбузах, в красном перце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1"/>
              </a:rPr>
              <a:t>шпин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капусте, ботве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2"/>
              </a:rPr>
              <a:t>сельдерея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3"/>
              </a:rPr>
              <a:t>петруш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4"/>
              </a:rPr>
              <a:t>укроп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5"/>
              </a:rPr>
              <a:t>кресс-сал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6"/>
              </a:rPr>
              <a:t>моркови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7"/>
              </a:rPr>
              <a:t>щавел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8"/>
              </a:rPr>
              <a:t>лу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перце, крапиве, одуванчике, клевере. Отмечают, что количество витаминов изменяется в соответствии с окраской продуктов в красновато-желтый цвет: чем интенсивнее эта окраска, тем больше витамина в продукте. Количество витамина в жирах зависит от состава пищи, которой питается животное. Если пища животного богата витаминами или провитаминами, то жир его содержит высокий процент витамина; так, рыбий жир в 100 раз богаче витамином А, чем сливочное масло, потому что растительный и животный планктон, которым питаются рыбы, очень богат витамином 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9"/>
          <a:stretch/>
        </p:blipFill>
        <p:spPr>
          <a:xfrm>
            <a:off x="2514600" y="2286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уточная потребность взрослого человека в витамине А (в пересчете на ретинол) - 1 мг, беременных и кормящих женщин - 1,25-1,5 мг, детей первого года жизни - 0,4 мг. Потребность повышается в период развития и роста, в период беременности, а также при диабете и заболеваниях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в течение короткого времени выдерживает высокие температуры. Чувствителен к окислению кислородом воздуха и к ультрафиолетовым лучам. Лучше сохранять витамин А в темном месте. В пищевых веществах витамин А более стоек, даже при нагревани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лучше всасывается и усваивается в присутствии жиров. Провитамином А является b-каротин, из которого в организме образуется ретиналь, затем ретинол. Витамин А накапливается в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01080" cy="25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35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2-04-06T11:51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